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C75-4A03-4433-BD0E-D458D7C6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85C-8395-40B2-BF15-155C411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EFE-8C9A-45D0-9EAA-5EF6AFF1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7A4-E3D4-4EBE-A049-C3F418BF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3CC-EC0A-450D-A374-D47AE1E8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E59-68F5-438E-AD7F-0EA5DE2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EBD-7440-46A1-BD7F-CB820C2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26F-C7AE-40B4-A7D4-2691AE45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1C1-A475-4454-BF80-E2C3015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F69-6E7A-47A3-8945-767F52A7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631-80A8-44AE-8479-BB16BA1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975-0722-4EE8-BC1C-9CB7195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1B2-07E7-40FF-B6FE-CE4F99FE2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68360" y="2492280"/>
            <a:ext cx="8136000" cy="42076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Irregular ver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r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st 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hur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n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n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lea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i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ig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g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2"/>
          <p:cNvSpPr/>
          <p:nvPr/>
        </p:nvSpPr>
        <p:spPr>
          <a:xfrm>
            <a:off x="3203640" y="242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as/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651672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49236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65167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363528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9"/>
          <p:cNvSpPr/>
          <p:nvPr/>
        </p:nvSpPr>
        <p:spPr>
          <a:xfrm>
            <a:off x="644364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0"/>
          <p:cNvSpPr/>
          <p:nvPr/>
        </p:nvSpPr>
        <p:spPr>
          <a:xfrm>
            <a:off x="3635280" y="4365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6516720" y="4365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2"/>
          <p:cNvSpPr/>
          <p:nvPr/>
        </p:nvSpPr>
        <p:spPr>
          <a:xfrm>
            <a:off x="3635280" y="501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651672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i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l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ea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oadca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ui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3203640" y="242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651672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349236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l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7"/>
          <p:cNvSpPr/>
          <p:nvPr/>
        </p:nvSpPr>
        <p:spPr>
          <a:xfrm>
            <a:off x="651672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8"/>
          <p:cNvSpPr/>
          <p:nvPr/>
        </p:nvSpPr>
        <p:spPr>
          <a:xfrm>
            <a:off x="363528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9"/>
          <p:cNvSpPr/>
          <p:nvPr/>
        </p:nvSpPr>
        <p:spPr>
          <a:xfrm>
            <a:off x="644364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ad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ad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ur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u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at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ho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ho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cr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e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i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r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r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r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e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e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dr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r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e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e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fig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i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l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l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orb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or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b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b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forg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ree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iv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r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ro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ha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a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o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1-02-20T15:16:05Z</dcterms:modified>
  <cp:revision>58</cp:revision>
  <dc:subject/>
  <dc:title>Diapositive 1</dc:title>
</cp:coreProperties>
</file>